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5072040" y="6113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ma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69840" y="2666880"/>
            <a:ext cx="5416560" cy="10144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s or feeling that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kes in the mind of the read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xym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69840" y="2514600"/>
            <a:ext cx="5288040" cy="11667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of speech cont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dictory meaning and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ti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s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528624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that says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tithesis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28440" y="2606760"/>
            <a:ext cx="5753160" cy="11080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of opposite idea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grammatical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s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8830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f vowel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eries of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a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52992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which stand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larger than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l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766960"/>
            <a:ext cx="50878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between un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NOT using “like or a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ro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69840" y="2766960"/>
            <a:ext cx="48830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using “like or 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 of the auth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reader infer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ll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69840" y="2666880"/>
            <a:ext cx="4883040" cy="10144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words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 begin with the sam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agonist of the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las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69840" y="2766960"/>
            <a:ext cx="52056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ing an earlier epis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one just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l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142920" y="2787480"/>
            <a:ext cx="50036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or passing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yper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0" y="2819520"/>
            <a:ext cx="54626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ords used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r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yper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xymo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69840" y="2766960"/>
            <a:ext cx="48830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of speech 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gg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Mariana Salas Viruet</cp:lastModifiedBy>
  <dcterms:modified xsi:type="dcterms:W3CDTF">2010-12-01T19:25:10Z</dcterms:modified>
  <cp:revision>23</cp:revision>
  <dc:subject/>
  <dc:title>No Slide Title</dc:title>
</cp:coreProperties>
</file>